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0B5-51E8-4013-A5CC-759BB13A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20F-F87F-4BCF-8471-503EF5E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1CA-4F77-4904-9AB7-6120ED2F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13C-408B-4DB2-B709-C86571C3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6185-C417-427D-8FE7-20933983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9E42-A27E-4577-B2F4-029C3C9C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778C-F1DE-41D9-B736-2B404A57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EB9A-22CB-4EDE-81DA-A1A60181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CB82-2691-4612-A513-4E1A7AB6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E567-24DB-4B5F-85E0-F6A86BA3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73EE-D41C-49D6-A734-F6C6F91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3A1-6CAD-4AB8-9517-6EEB6A82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B3A-6779-407C-8E88-DB863E54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124D-499A-43F2-9CB7-F3EA765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7E99-4967-474A-8180-AA0C4D16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E905-830B-494A-B639-86768665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63D9-1A0C-4216-A5AC-13254A7B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D35-89CB-4613-9260-8C33115A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7D5-858F-47C9-A604-F016E592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83A-6C8F-4A35-986C-0D8E5979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A5C-DE2D-4BB0-9B44-56F106BF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393-3522-493D-A4E5-F4D8518D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92D-91FB-490B-8DFA-4ED4B9AE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205-DFD1-411E-809E-EBCA0A2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473E-88E0-433A-BDB5-669503E455F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60D6-01E4-4F7D-9665-0FED584EBC0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www.wikispaces.com/" TargetMode="Externa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ducationwithkris.wikispaces.com/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FMS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Wikis”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9/8/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Make A Wiki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www.wikispaces.c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146560" y="2286000"/>
            <a:ext cx="289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ing a 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“create your own classroom wiki toda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ll out the information in “join now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 sure to pick a wiki name your like, it will be difficult to change la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are ready to add content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’s that ea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514600" y="266076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oose page to ed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 curser to area to add 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gin typing descrip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81480" y="2198520"/>
            <a:ext cx="39625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ck on the picture ic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owse your computer for the docu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n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click to ad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105520" y="2498760"/>
            <a:ext cx="327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view screen cast on “Home Page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7120" y="2057400"/>
            <a:ext cx="298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630760" y="2057400"/>
            <a:ext cx="2498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 is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bsite that allows the user (s) to post and share conten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670720" y="16002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 of “Wiki’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safe place to post content on the inter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83080" y="2514600"/>
            <a:ext cx="255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oup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d Ca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 Presen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ip Cam” Vide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t up o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vi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81480" y="266076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add cont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set perimet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perform better when they have an audi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33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e of Inform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t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c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ndou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ide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05520" y="2824200"/>
            <a:ext cx="3352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ntralized 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Efficient than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Docu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’s 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105520" y="2486160"/>
            <a:ext cx="2971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educationwithkris.wikispaces.co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3505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36:51Z</dcterms:created>
  <dc:creator>North Rockland Schools</dc:creator>
  <dc:description/>
  <dc:language>en-US</dc:language>
  <cp:lastModifiedBy>North Rockland Schools</cp:lastModifiedBy>
  <dcterms:modified xsi:type="dcterms:W3CDTF">2009-09-08T11:32:12Z</dcterms:modified>
  <cp:revision>3</cp:revision>
  <dc:subject/>
  <dc:title>ALF 8/31/09 </dc:title>
</cp:coreProperties>
</file>